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080625" cy="7559675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BE14-82A4-418B-8DF8-96E718357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9803-F120-476B-B2E3-D77D8256F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7F7C-250D-4D9F-AC13-501EE579A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2F9A-9C9A-444E-8B74-EF10F4E74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BAFE-DDA5-4D09-9C9B-045BAB504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A000-AA60-4826-9175-35B90B35A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C1CC-99B3-4CF3-8CD0-F0C05067A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B633-CF35-4ABF-A4B2-828259C7E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74E1-765E-4C1A-B930-7E4C3D354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CAC0-C5D8-46BF-A540-255086265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714F-8E6A-48F8-8730-212F44E1C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49A3-9DF5-4B48-AA90-CE0BBA4FB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9D9B8B-4E8D-47B5-9B24-D274A9F824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10080720" cy="1260360"/>
          </a:xfrm>
          <a:prstGeom prst="roundRect">
            <a:avLst>
              <a:gd name="adj" fmla="val 125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3200" spc="-1" strike="noStrike">
                <a:solidFill>
                  <a:srgbClr val="ffffff"/>
                </a:solidFill>
                <a:latin typeface="Arial"/>
              </a:rPr>
              <a:t>Suivi régional des Parcours VA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13240" y="2014560"/>
            <a:ext cx="62474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Le Suivi régional des parcours VAE : pourquoi, comment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54640" y="2987640"/>
            <a:ext cx="28213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Les dispositifs régiona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33040" y="3851280"/>
            <a:ext cx="56239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Créer un espace régional de suivi des parcours V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84160" y="4716360"/>
            <a:ext cx="14133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Connex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6480000" y="161928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210200" y="2695680"/>
            <a:ext cx="5040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Données non enregistrées    Données enregistré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60360" y="2050920"/>
            <a:ext cx="950436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Validation                 Préparation du fichier d’export                  Ex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03280" y="2124000"/>
            <a:ext cx="216000" cy="216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592360" y="2124000"/>
            <a:ext cx="216000" cy="216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769080" y="2124000"/>
            <a:ext cx="216000" cy="216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3280" y="3187800"/>
            <a:ext cx="9074160" cy="23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ancez l’export de votre fichier de données harmonisé et anonym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enregistrement de votre fichier dans le serv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fusion de vos données avec celles enregistrées antérieur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incorporation de ces données dans la base régionale des parcours V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 l’issue de cette opération, vos données seront enregistrées sur le serveur. Elles resteront parfaitement anony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Lancez l’ex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0" y="0"/>
            <a:ext cx="10080720" cy="1476360"/>
            <a:chOff x="0" y="0"/>
            <a:chExt cx="10080720" cy="1476360"/>
          </a:xfrm>
        </p:grpSpPr>
        <p:sp>
          <p:nvSpPr>
            <p:cNvPr id="135" name=""/>
            <p:cNvSpPr/>
            <p:nvPr/>
          </p:nvSpPr>
          <p:spPr>
            <a:xfrm>
              <a:off x="0" y="0"/>
              <a:ext cx="10080720" cy="1476360"/>
            </a:xfrm>
            <a:prstGeom prst="roundRect">
              <a:avLst>
                <a:gd name="adj" fmla="val 125"/>
              </a:avLst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308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Suivi régional des Parcours VA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Provence Alpes Côte d‘Az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2800" spc="-1" strike="noStrike">
                  <a:solidFill>
                    <a:srgbClr val="ffffff"/>
                  </a:solidFill>
                  <a:latin typeface="Arial"/>
                </a:rPr>
                <a:t>Interface d‘export des données certificateu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723280" y="108000"/>
              <a:ext cx="419796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Identifiant : Dupond I Direccte I </a:t>
              </a:r>
              <a:r>
                <a:rPr b="0" lang="fr-FR" sz="1600" spc="-1" strike="noStrike">
                  <a:solidFill>
                    <a:srgbClr val="ccccff"/>
                  </a:solidFill>
                  <a:latin typeface="Arial"/>
                </a:rPr>
                <a:t>déconnecter</a:t>
              </a: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6480000" y="161928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210200" y="2695680"/>
            <a:ext cx="5040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Données non enregistrées    Données enregistré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2050920"/>
            <a:ext cx="950436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Validation                 Préparation du fichier d’export                  Ex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03280" y="2124000"/>
            <a:ext cx="216000" cy="216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92360" y="2124000"/>
            <a:ext cx="216000" cy="216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769080" y="2124000"/>
            <a:ext cx="216000" cy="216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295280" y="3708360"/>
            <a:ext cx="7848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3708360"/>
            <a:ext cx="5257800" cy="28728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0" y="0"/>
            <a:ext cx="10080720" cy="1476360"/>
            <a:chOff x="0" y="0"/>
            <a:chExt cx="10080720" cy="1476360"/>
          </a:xfrm>
        </p:grpSpPr>
        <p:sp>
          <p:nvSpPr>
            <p:cNvPr id="146" name=""/>
            <p:cNvSpPr/>
            <p:nvPr/>
          </p:nvSpPr>
          <p:spPr>
            <a:xfrm>
              <a:off x="0" y="0"/>
              <a:ext cx="10080720" cy="1476360"/>
            </a:xfrm>
            <a:prstGeom prst="roundRect">
              <a:avLst>
                <a:gd name="adj" fmla="val 125"/>
              </a:avLst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308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Suivi régional des Parcours VA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Provence Alpes Côte d‘Az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2800" spc="-1" strike="noStrike">
                  <a:solidFill>
                    <a:srgbClr val="ffffff"/>
                  </a:solidFill>
                  <a:latin typeface="Arial"/>
                </a:rPr>
                <a:t>Interface d‘export des données certificateu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723280" y="108000"/>
              <a:ext cx="419796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Identifiant : Dupond I Direccte I </a:t>
              </a:r>
              <a:r>
                <a:rPr b="0" lang="fr-FR" sz="1600" spc="-1" strike="noStrike">
                  <a:solidFill>
                    <a:srgbClr val="ccccff"/>
                  </a:solidFill>
                  <a:latin typeface="Arial"/>
                </a:rPr>
                <a:t>déconnecter</a:t>
              </a: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6480000" y="161928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176720" y="2700360"/>
            <a:ext cx="50403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Données non enregistrées    </a:t>
            </a:r>
            <a:r>
              <a:rPr b="0" lang="fr-FR" sz="1400" spc="-1" strike="noStrike">
                <a:solidFill>
                  <a:srgbClr val="0000cc"/>
                </a:solidFill>
                <a:latin typeface="Arial"/>
              </a:rPr>
              <a:t>Données enregistré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60360" y="2050920"/>
            <a:ext cx="950436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Validation                 Préparation du fichier d’export                  Ex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3280" y="2124000"/>
            <a:ext cx="216000" cy="216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592360" y="2124000"/>
            <a:ext cx="216000" cy="216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769080" y="2124000"/>
            <a:ext cx="216000" cy="216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295280" y="3708360"/>
            <a:ext cx="7848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295280" y="3708360"/>
            <a:ext cx="7848720" cy="28728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241280" y="4194000"/>
            <a:ext cx="6967800" cy="26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Vos données ont été correctement exportées dans la base des parcours VA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Vous pourrez les consulter d’ici 48h  en revenant vers le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Arial"/>
              </a:rPr>
              <a:t>« mes fichiers, mes statistiques 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0" y="0"/>
            <a:ext cx="10080720" cy="1476360"/>
            <a:chOff x="0" y="0"/>
            <a:chExt cx="10080720" cy="1476360"/>
          </a:xfrm>
        </p:grpSpPr>
        <p:sp>
          <p:nvSpPr>
            <p:cNvPr id="158" name=""/>
            <p:cNvSpPr/>
            <p:nvPr/>
          </p:nvSpPr>
          <p:spPr>
            <a:xfrm>
              <a:off x="0" y="0"/>
              <a:ext cx="10080720" cy="1476360"/>
            </a:xfrm>
            <a:prstGeom prst="roundRect">
              <a:avLst>
                <a:gd name="adj" fmla="val 125"/>
              </a:avLst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308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Suivi régional des Parcours VA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Provence Alpes Côte d‘Az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2800" spc="-1" strike="noStrike">
                  <a:solidFill>
                    <a:srgbClr val="ffffff"/>
                  </a:solidFill>
                  <a:latin typeface="Arial"/>
                </a:rPr>
                <a:t>Interface d‘export des données certificateu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723280" y="108000"/>
              <a:ext cx="419796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Identifiant : Dupond I Direccte I </a:t>
              </a:r>
              <a:r>
                <a:rPr b="0" lang="fr-FR" sz="1600" spc="-1" strike="noStrike">
                  <a:solidFill>
                    <a:srgbClr val="ccccff"/>
                  </a:solidFill>
                  <a:latin typeface="Arial"/>
                </a:rPr>
                <a:t>déconnecter</a:t>
              </a: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0"/>
            <a:ext cx="10080720" cy="1476360"/>
          </a:xfrm>
          <a:prstGeom prst="roundRect">
            <a:avLst>
              <a:gd name="adj" fmla="val 125"/>
            </a:avLst>
          </a:prstGeom>
          <a:solidFill>
            <a:srgbClr val="0099ff"/>
          </a:solidFill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1800" spc="-1" strike="noStrike">
                <a:solidFill>
                  <a:srgbClr val="ffffff"/>
                </a:solidFill>
                <a:latin typeface="Arial"/>
              </a:rPr>
              <a:t>Suivi régional des Parcours V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1800" spc="-1" strike="noStrike">
                <a:solidFill>
                  <a:srgbClr val="ffffff"/>
                </a:solidFill>
                <a:latin typeface="Arial"/>
              </a:rPr>
              <a:t>Provence Alpes Côte d‘Az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2800" spc="-1" strike="noStrike">
                <a:solidFill>
                  <a:srgbClr val="ffffff"/>
                </a:solidFill>
                <a:latin typeface="Arial"/>
              </a:rPr>
              <a:t>Mes fichiers, mes statist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576360" y="1835280"/>
          <a:ext cx="8208720" cy="1746000"/>
        </p:xfrm>
        <a:graphic>
          <a:graphicData uri="http://schemas.openxmlformats.org/drawingml/2006/table">
            <a:tbl>
              <a:tblPr/>
              <a:tblGrid>
                <a:gridCol w="1550880"/>
                <a:gridCol w="2625840"/>
                <a:gridCol w="1150920"/>
                <a:gridCol w="1008000"/>
                <a:gridCol w="18730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ertificateu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chier export enregistré le 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i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aité le 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ir le fichier trait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recc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/9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/9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2" name=""/>
          <p:cNvGraphicFramePr/>
          <p:nvPr/>
        </p:nvGraphicFramePr>
        <p:xfrm>
          <a:off x="647640" y="4572000"/>
          <a:ext cx="6769080" cy="2419200"/>
        </p:xfrm>
        <a:graphic>
          <a:graphicData uri="http://schemas.openxmlformats.org/drawingml/2006/table">
            <a:tbl>
              <a:tblPr/>
              <a:tblGrid>
                <a:gridCol w="2808360"/>
                <a:gridCol w="2016000"/>
                <a:gridCol w="19447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tistiqu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te du dernier ét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ir, télécharg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se de données parcours VAE certificateu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/09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se de données parcours VA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/09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rôle qualit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/09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dicateurs permane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/09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dicateurs spécifiqu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/10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isations annuelles certificateu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"/>
          <p:cNvSpPr/>
          <p:nvPr/>
        </p:nvSpPr>
        <p:spPr>
          <a:xfrm>
            <a:off x="4791240" y="2149560"/>
            <a:ext cx="1079280" cy="215640"/>
          </a:xfrm>
          <a:custGeom>
            <a:avLst/>
            <a:gdLst>
              <a:gd name="textAreaLeft" fmla="*/ 13680 w 1079280"/>
              <a:gd name="textAreaRight" fmla="*/ 1065600 w 107928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107964" h="21600">
                <a:moveTo>
                  <a:pt x="0" y="0"/>
                </a:moveTo>
                <a:lnTo>
                  <a:pt x="107964" y="0"/>
                </a:lnTo>
                <a:lnTo>
                  <a:pt x="107964" y="21600"/>
                </a:lnTo>
                <a:lnTo>
                  <a:pt x="0" y="21600"/>
                </a:lnTo>
                <a:close/>
              </a:path>
              <a:path fill="lightenLess" w="107964" h="21600">
                <a:moveTo>
                  <a:pt x="0" y="0"/>
                </a:moveTo>
                <a:lnTo>
                  <a:pt x="107964" y="0"/>
                </a:lnTo>
                <a:lnTo>
                  <a:pt x="106564" y="1400"/>
                </a:lnTo>
                <a:lnTo>
                  <a:pt x="1400" y="1400"/>
                </a:lnTo>
                <a:close/>
              </a:path>
              <a:path fill="darken" w="107964" h="21600">
                <a:moveTo>
                  <a:pt x="107964" y="0"/>
                </a:moveTo>
                <a:lnTo>
                  <a:pt x="107964" y="21600"/>
                </a:lnTo>
                <a:lnTo>
                  <a:pt x="106564" y="20200"/>
                </a:lnTo>
                <a:lnTo>
                  <a:pt x="106564" y="1400"/>
                </a:lnTo>
                <a:close/>
              </a:path>
              <a:path fill="darkenLess" w="107964" h="21600">
                <a:moveTo>
                  <a:pt x="1079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564" y="20200"/>
                </a:lnTo>
                <a:close/>
              </a:path>
              <a:path fill="lighten" w="1079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vo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310520" y="2149560"/>
            <a:ext cx="1079280" cy="215640"/>
          </a:xfrm>
          <a:custGeom>
            <a:avLst/>
            <a:gdLst>
              <a:gd name="textAreaLeft" fmla="*/ 13680 w 1079280"/>
              <a:gd name="textAreaRight" fmla="*/ 1065600 w 107928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107964" h="21600">
                <a:moveTo>
                  <a:pt x="0" y="0"/>
                </a:moveTo>
                <a:lnTo>
                  <a:pt x="107964" y="0"/>
                </a:lnTo>
                <a:lnTo>
                  <a:pt x="107964" y="21600"/>
                </a:lnTo>
                <a:lnTo>
                  <a:pt x="0" y="21600"/>
                </a:lnTo>
                <a:close/>
              </a:path>
              <a:path fill="lightenLess" w="107964" h="21600">
                <a:moveTo>
                  <a:pt x="0" y="0"/>
                </a:moveTo>
                <a:lnTo>
                  <a:pt x="107964" y="0"/>
                </a:lnTo>
                <a:lnTo>
                  <a:pt x="106564" y="1400"/>
                </a:lnTo>
                <a:lnTo>
                  <a:pt x="1400" y="1400"/>
                </a:lnTo>
                <a:close/>
              </a:path>
              <a:path fill="darken" w="107964" h="21600">
                <a:moveTo>
                  <a:pt x="107964" y="0"/>
                </a:moveTo>
                <a:lnTo>
                  <a:pt x="107964" y="21600"/>
                </a:lnTo>
                <a:lnTo>
                  <a:pt x="106564" y="20200"/>
                </a:lnTo>
                <a:lnTo>
                  <a:pt x="106564" y="1400"/>
                </a:lnTo>
                <a:close/>
              </a:path>
              <a:path fill="darkenLess" w="107964" h="21600">
                <a:moveTo>
                  <a:pt x="1079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564" y="20200"/>
                </a:lnTo>
                <a:close/>
              </a:path>
              <a:path fill="lighten" w="1079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vo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904000" y="5087880"/>
            <a:ext cx="1079280" cy="216000"/>
          </a:xfrm>
          <a:custGeom>
            <a:avLst/>
            <a:gdLst>
              <a:gd name="textAreaLeft" fmla="*/ 13680 w 1079280"/>
              <a:gd name="textAreaRight" fmla="*/ 1065600 w 1079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107784" h="21600">
                <a:moveTo>
                  <a:pt x="0" y="0"/>
                </a:moveTo>
                <a:lnTo>
                  <a:pt x="107784" y="0"/>
                </a:lnTo>
                <a:lnTo>
                  <a:pt x="107784" y="21600"/>
                </a:lnTo>
                <a:lnTo>
                  <a:pt x="0" y="21600"/>
                </a:lnTo>
                <a:close/>
              </a:path>
              <a:path fill="lightenLess" w="107784" h="21600">
                <a:moveTo>
                  <a:pt x="0" y="0"/>
                </a:moveTo>
                <a:lnTo>
                  <a:pt x="107784" y="0"/>
                </a:lnTo>
                <a:lnTo>
                  <a:pt x="106384" y="1400"/>
                </a:lnTo>
                <a:lnTo>
                  <a:pt x="1400" y="1400"/>
                </a:lnTo>
                <a:close/>
              </a:path>
              <a:path fill="darken" w="107784" h="21600">
                <a:moveTo>
                  <a:pt x="107784" y="0"/>
                </a:moveTo>
                <a:lnTo>
                  <a:pt x="107784" y="21600"/>
                </a:lnTo>
                <a:lnTo>
                  <a:pt x="106384" y="20200"/>
                </a:lnTo>
                <a:lnTo>
                  <a:pt x="106384" y="1400"/>
                </a:lnTo>
                <a:close/>
              </a:path>
              <a:path fill="darkenLess" w="107784" h="21600">
                <a:moveTo>
                  <a:pt x="1077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384" y="20200"/>
                </a:lnTo>
                <a:close/>
              </a:path>
              <a:path fill="lighten" w="1077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vo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04000" y="5380200"/>
            <a:ext cx="1079280" cy="215640"/>
          </a:xfrm>
          <a:custGeom>
            <a:avLst/>
            <a:gdLst>
              <a:gd name="textAreaLeft" fmla="*/ 13680 w 1079280"/>
              <a:gd name="textAreaRight" fmla="*/ 1065600 w 107928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107964" h="21600">
                <a:moveTo>
                  <a:pt x="0" y="0"/>
                </a:moveTo>
                <a:lnTo>
                  <a:pt x="107964" y="0"/>
                </a:lnTo>
                <a:lnTo>
                  <a:pt x="107964" y="21600"/>
                </a:lnTo>
                <a:lnTo>
                  <a:pt x="0" y="21600"/>
                </a:lnTo>
                <a:close/>
              </a:path>
              <a:path fill="lightenLess" w="107964" h="21600">
                <a:moveTo>
                  <a:pt x="0" y="0"/>
                </a:moveTo>
                <a:lnTo>
                  <a:pt x="107964" y="0"/>
                </a:lnTo>
                <a:lnTo>
                  <a:pt x="106564" y="1400"/>
                </a:lnTo>
                <a:lnTo>
                  <a:pt x="1400" y="1400"/>
                </a:lnTo>
                <a:close/>
              </a:path>
              <a:path fill="darken" w="107964" h="21600">
                <a:moveTo>
                  <a:pt x="107964" y="0"/>
                </a:moveTo>
                <a:lnTo>
                  <a:pt x="107964" y="21600"/>
                </a:lnTo>
                <a:lnTo>
                  <a:pt x="106564" y="20200"/>
                </a:lnTo>
                <a:lnTo>
                  <a:pt x="106564" y="1400"/>
                </a:lnTo>
                <a:close/>
              </a:path>
              <a:path fill="darkenLess" w="107964" h="21600">
                <a:moveTo>
                  <a:pt x="1079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564" y="20200"/>
                </a:lnTo>
                <a:close/>
              </a:path>
              <a:path fill="lighten" w="1079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vo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904000" y="5651640"/>
            <a:ext cx="1079280" cy="215640"/>
          </a:xfrm>
          <a:custGeom>
            <a:avLst/>
            <a:gdLst>
              <a:gd name="textAreaLeft" fmla="*/ 13680 w 1079280"/>
              <a:gd name="textAreaRight" fmla="*/ 1065600 w 107928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107964" h="21600">
                <a:moveTo>
                  <a:pt x="0" y="0"/>
                </a:moveTo>
                <a:lnTo>
                  <a:pt x="107964" y="0"/>
                </a:lnTo>
                <a:lnTo>
                  <a:pt x="107964" y="21600"/>
                </a:lnTo>
                <a:lnTo>
                  <a:pt x="0" y="21600"/>
                </a:lnTo>
                <a:close/>
              </a:path>
              <a:path fill="lightenLess" w="107964" h="21600">
                <a:moveTo>
                  <a:pt x="0" y="0"/>
                </a:moveTo>
                <a:lnTo>
                  <a:pt x="107964" y="0"/>
                </a:lnTo>
                <a:lnTo>
                  <a:pt x="106564" y="1400"/>
                </a:lnTo>
                <a:lnTo>
                  <a:pt x="1400" y="1400"/>
                </a:lnTo>
                <a:close/>
              </a:path>
              <a:path fill="darken" w="107964" h="21600">
                <a:moveTo>
                  <a:pt x="107964" y="0"/>
                </a:moveTo>
                <a:lnTo>
                  <a:pt x="107964" y="21600"/>
                </a:lnTo>
                <a:lnTo>
                  <a:pt x="106564" y="20200"/>
                </a:lnTo>
                <a:lnTo>
                  <a:pt x="106564" y="1400"/>
                </a:lnTo>
                <a:close/>
              </a:path>
              <a:path fill="darkenLess" w="107964" h="21600">
                <a:moveTo>
                  <a:pt x="1079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564" y="20200"/>
                </a:lnTo>
                <a:close/>
              </a:path>
              <a:path fill="lighten" w="1079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vo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723280" y="108000"/>
            <a:ext cx="419796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Identifiant : Dupond I Direccte I </a:t>
            </a:r>
            <a:r>
              <a:rPr b="0" lang="fr-FR" sz="1600" spc="-1" strike="noStrike">
                <a:solidFill>
                  <a:srgbClr val="ccccff"/>
                </a:solidFill>
                <a:latin typeface="Arial"/>
              </a:rPr>
              <a:t>déconnecter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916600" y="5938920"/>
            <a:ext cx="1079640" cy="215640"/>
          </a:xfrm>
          <a:custGeom>
            <a:avLst/>
            <a:gdLst>
              <a:gd name="textAreaLeft" fmla="*/ 13680 w 1079640"/>
              <a:gd name="textAreaRight" fmla="*/ 1065960 w 107964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108000" h="21600">
                <a:moveTo>
                  <a:pt x="0" y="0"/>
                </a:moveTo>
                <a:lnTo>
                  <a:pt x="108000" y="0"/>
                </a:lnTo>
                <a:lnTo>
                  <a:pt x="108000" y="21600"/>
                </a:lnTo>
                <a:lnTo>
                  <a:pt x="0" y="21600"/>
                </a:lnTo>
                <a:close/>
              </a:path>
              <a:path fill="lightenLess" w="108000" h="21600">
                <a:moveTo>
                  <a:pt x="0" y="0"/>
                </a:moveTo>
                <a:lnTo>
                  <a:pt x="108000" y="0"/>
                </a:lnTo>
                <a:lnTo>
                  <a:pt x="106600" y="1400"/>
                </a:lnTo>
                <a:lnTo>
                  <a:pt x="1400" y="1400"/>
                </a:lnTo>
                <a:close/>
              </a:path>
              <a:path fill="darken" w="108000" h="21600">
                <a:moveTo>
                  <a:pt x="108000" y="0"/>
                </a:moveTo>
                <a:lnTo>
                  <a:pt x="108000" y="21600"/>
                </a:lnTo>
                <a:lnTo>
                  <a:pt x="106600" y="20200"/>
                </a:lnTo>
                <a:lnTo>
                  <a:pt x="106600" y="1400"/>
                </a:lnTo>
                <a:close/>
              </a:path>
              <a:path fill="darkenLess" w="108000" h="21600">
                <a:moveTo>
                  <a:pt x="108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600" y="20200"/>
                </a:lnTo>
                <a:close/>
              </a:path>
              <a:path fill="lighten" w="108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vo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0"/>
            <a:ext cx="10080720" cy="1476360"/>
          </a:xfrm>
          <a:prstGeom prst="roundRect">
            <a:avLst>
              <a:gd name="adj" fmla="val 125"/>
            </a:avLst>
          </a:prstGeom>
          <a:solidFill>
            <a:srgbClr val="ffffff"/>
          </a:solidFill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1800" spc="-1" strike="noStrike">
                <a:solidFill>
                  <a:srgbClr val="0066ff"/>
                </a:solidFill>
                <a:latin typeface="Arial"/>
              </a:rPr>
              <a:t>Suivi régional des Parcours V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1800" spc="-1" strike="noStrike">
                <a:solidFill>
                  <a:srgbClr val="0066ff"/>
                </a:solidFill>
                <a:latin typeface="Arial"/>
              </a:rPr>
              <a:t>Provence Alpes Côte d‘Az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2800" spc="-1" strike="noStrike">
                <a:solidFill>
                  <a:srgbClr val="0066ff"/>
                </a:solidFill>
                <a:latin typeface="Arial"/>
              </a:rPr>
              <a:t>Tableau de bord gestion / é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722200" y="108000"/>
            <a:ext cx="314964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600" spc="-1" strike="noStrike">
                <a:solidFill>
                  <a:srgbClr val="0000cc"/>
                </a:solidFill>
                <a:latin typeface="Arial"/>
              </a:rPr>
              <a:t>Identifiant : Admin I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cc"/>
                </a:solidFill>
                <a:latin typeface="Arial"/>
              </a:rPr>
              <a:t>déconnecter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360360" y="1692360"/>
          <a:ext cx="9217080" cy="2638440"/>
        </p:xfrm>
        <a:graphic>
          <a:graphicData uri="http://schemas.openxmlformats.org/drawingml/2006/table">
            <a:tbl>
              <a:tblPr/>
              <a:tblGrid>
                <a:gridCol w="1550880"/>
                <a:gridCol w="2625840"/>
                <a:gridCol w="1150920"/>
                <a:gridCol w="1008000"/>
                <a:gridCol w="1008000"/>
                <a:gridCol w="187344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pag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ctobre 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ertificateu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chier export enregistré le 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i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ait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aité le 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ir le fichier trait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V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/9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/9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recc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/09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RJSC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RA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iversité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léme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ints Conseil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/09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431640" y="5757840"/>
          <a:ext cx="6769440" cy="1444680"/>
        </p:xfrm>
        <a:graphic>
          <a:graphicData uri="http://schemas.openxmlformats.org/drawingml/2006/table">
            <a:tbl>
              <a:tblPr/>
              <a:tblGrid>
                <a:gridCol w="2808360"/>
                <a:gridCol w="2016360"/>
                <a:gridCol w="19447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tistiqu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te du dernier ét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ir, télécharg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rôle qualit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/09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dicateurs permane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/09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dicateurs spécifiqu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/09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isations annuel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4" name=""/>
          <p:cNvSpPr/>
          <p:nvPr/>
        </p:nvSpPr>
        <p:spPr>
          <a:xfrm>
            <a:off x="4573440" y="2314440"/>
            <a:ext cx="1079640" cy="216000"/>
          </a:xfrm>
          <a:custGeom>
            <a:avLst/>
            <a:gdLst>
              <a:gd name="textAreaLeft" fmla="*/ 13680 w 1079640"/>
              <a:gd name="textAreaRight" fmla="*/ 1065960 w 1079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107820" h="21600">
                <a:moveTo>
                  <a:pt x="0" y="0"/>
                </a:moveTo>
                <a:lnTo>
                  <a:pt x="107820" y="0"/>
                </a:lnTo>
                <a:lnTo>
                  <a:pt x="107820" y="21600"/>
                </a:lnTo>
                <a:lnTo>
                  <a:pt x="0" y="21600"/>
                </a:lnTo>
                <a:close/>
              </a:path>
              <a:path fill="lightenLess" w="107820" h="21600">
                <a:moveTo>
                  <a:pt x="0" y="0"/>
                </a:moveTo>
                <a:lnTo>
                  <a:pt x="107820" y="0"/>
                </a:lnTo>
                <a:lnTo>
                  <a:pt x="106420" y="1400"/>
                </a:lnTo>
                <a:lnTo>
                  <a:pt x="1400" y="1400"/>
                </a:lnTo>
                <a:close/>
              </a:path>
              <a:path fill="darken" w="107820" h="21600">
                <a:moveTo>
                  <a:pt x="107820" y="0"/>
                </a:moveTo>
                <a:lnTo>
                  <a:pt x="107820" y="21600"/>
                </a:lnTo>
                <a:lnTo>
                  <a:pt x="106420" y="20200"/>
                </a:lnTo>
                <a:lnTo>
                  <a:pt x="106420" y="1400"/>
                </a:lnTo>
                <a:close/>
              </a:path>
              <a:path fill="darkenLess" w="107820" h="21600">
                <a:moveTo>
                  <a:pt x="1078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20" y="20200"/>
                </a:lnTo>
                <a:close/>
              </a:path>
              <a:path fill="lighten" w="1078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vo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8085240" y="2305080"/>
            <a:ext cx="1079280" cy="216000"/>
          </a:xfrm>
          <a:custGeom>
            <a:avLst/>
            <a:gdLst>
              <a:gd name="textAreaLeft" fmla="*/ 13680 w 1079280"/>
              <a:gd name="textAreaRight" fmla="*/ 1065600 w 1079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107784" h="21600">
                <a:moveTo>
                  <a:pt x="0" y="0"/>
                </a:moveTo>
                <a:lnTo>
                  <a:pt x="107784" y="0"/>
                </a:lnTo>
                <a:lnTo>
                  <a:pt x="107784" y="21600"/>
                </a:lnTo>
                <a:lnTo>
                  <a:pt x="0" y="21600"/>
                </a:lnTo>
                <a:close/>
              </a:path>
              <a:path fill="lightenLess" w="107784" h="21600">
                <a:moveTo>
                  <a:pt x="0" y="0"/>
                </a:moveTo>
                <a:lnTo>
                  <a:pt x="107784" y="0"/>
                </a:lnTo>
                <a:lnTo>
                  <a:pt x="106384" y="1400"/>
                </a:lnTo>
                <a:lnTo>
                  <a:pt x="1400" y="1400"/>
                </a:lnTo>
                <a:close/>
              </a:path>
              <a:path fill="darken" w="107784" h="21600">
                <a:moveTo>
                  <a:pt x="107784" y="0"/>
                </a:moveTo>
                <a:lnTo>
                  <a:pt x="107784" y="21600"/>
                </a:lnTo>
                <a:lnTo>
                  <a:pt x="106384" y="20200"/>
                </a:lnTo>
                <a:lnTo>
                  <a:pt x="106384" y="1400"/>
                </a:lnTo>
                <a:close/>
              </a:path>
              <a:path fill="darkenLess" w="107784" h="21600">
                <a:moveTo>
                  <a:pt x="1077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384" y="20200"/>
                </a:lnTo>
                <a:close/>
              </a:path>
              <a:path fill="lighten" w="1077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vo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678640" y="6093000"/>
            <a:ext cx="1079280" cy="215640"/>
          </a:xfrm>
          <a:custGeom>
            <a:avLst/>
            <a:gdLst>
              <a:gd name="textAreaLeft" fmla="*/ 13680 w 1079280"/>
              <a:gd name="textAreaRight" fmla="*/ 1065600 w 107928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107964" h="21600">
                <a:moveTo>
                  <a:pt x="0" y="0"/>
                </a:moveTo>
                <a:lnTo>
                  <a:pt x="107964" y="0"/>
                </a:lnTo>
                <a:lnTo>
                  <a:pt x="107964" y="21600"/>
                </a:lnTo>
                <a:lnTo>
                  <a:pt x="0" y="21600"/>
                </a:lnTo>
                <a:close/>
              </a:path>
              <a:path fill="lightenLess" w="107964" h="21600">
                <a:moveTo>
                  <a:pt x="0" y="0"/>
                </a:moveTo>
                <a:lnTo>
                  <a:pt x="107964" y="0"/>
                </a:lnTo>
                <a:lnTo>
                  <a:pt x="106564" y="1400"/>
                </a:lnTo>
                <a:lnTo>
                  <a:pt x="1400" y="1400"/>
                </a:lnTo>
                <a:close/>
              </a:path>
              <a:path fill="darken" w="107964" h="21600">
                <a:moveTo>
                  <a:pt x="107964" y="0"/>
                </a:moveTo>
                <a:lnTo>
                  <a:pt x="107964" y="21600"/>
                </a:lnTo>
                <a:lnTo>
                  <a:pt x="106564" y="20200"/>
                </a:lnTo>
                <a:lnTo>
                  <a:pt x="106564" y="1400"/>
                </a:lnTo>
                <a:close/>
              </a:path>
              <a:path fill="darkenLess" w="107964" h="21600">
                <a:moveTo>
                  <a:pt x="1079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564" y="20200"/>
                </a:lnTo>
                <a:close/>
              </a:path>
              <a:path fill="lighten" w="1079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vo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688000" y="6380280"/>
            <a:ext cx="1079640" cy="215640"/>
          </a:xfrm>
          <a:custGeom>
            <a:avLst/>
            <a:gdLst>
              <a:gd name="textAreaLeft" fmla="*/ 13680 w 1079640"/>
              <a:gd name="textAreaRight" fmla="*/ 1065960 w 107964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108000" h="21600">
                <a:moveTo>
                  <a:pt x="0" y="0"/>
                </a:moveTo>
                <a:lnTo>
                  <a:pt x="108000" y="0"/>
                </a:lnTo>
                <a:lnTo>
                  <a:pt x="108000" y="21600"/>
                </a:lnTo>
                <a:lnTo>
                  <a:pt x="0" y="21600"/>
                </a:lnTo>
                <a:close/>
              </a:path>
              <a:path fill="lightenLess" w="108000" h="21600">
                <a:moveTo>
                  <a:pt x="0" y="0"/>
                </a:moveTo>
                <a:lnTo>
                  <a:pt x="108000" y="0"/>
                </a:lnTo>
                <a:lnTo>
                  <a:pt x="106600" y="1400"/>
                </a:lnTo>
                <a:lnTo>
                  <a:pt x="1400" y="1400"/>
                </a:lnTo>
                <a:close/>
              </a:path>
              <a:path fill="darken" w="108000" h="21600">
                <a:moveTo>
                  <a:pt x="108000" y="0"/>
                </a:moveTo>
                <a:lnTo>
                  <a:pt x="108000" y="21600"/>
                </a:lnTo>
                <a:lnTo>
                  <a:pt x="106600" y="20200"/>
                </a:lnTo>
                <a:lnTo>
                  <a:pt x="106600" y="1400"/>
                </a:lnTo>
                <a:close/>
              </a:path>
              <a:path fill="darkenLess" w="108000" h="21600">
                <a:moveTo>
                  <a:pt x="108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600" y="20200"/>
                </a:lnTo>
                <a:close/>
              </a:path>
              <a:path fill="lighten" w="108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vo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680080" y="6647040"/>
            <a:ext cx="1079640" cy="215640"/>
          </a:xfrm>
          <a:custGeom>
            <a:avLst/>
            <a:gdLst>
              <a:gd name="textAreaLeft" fmla="*/ 13680 w 1079640"/>
              <a:gd name="textAreaRight" fmla="*/ 1065960 w 107964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108000" h="21600">
                <a:moveTo>
                  <a:pt x="0" y="0"/>
                </a:moveTo>
                <a:lnTo>
                  <a:pt x="108000" y="0"/>
                </a:lnTo>
                <a:lnTo>
                  <a:pt x="108000" y="21600"/>
                </a:lnTo>
                <a:lnTo>
                  <a:pt x="0" y="21600"/>
                </a:lnTo>
                <a:close/>
              </a:path>
              <a:path fill="lightenLess" w="108000" h="21600">
                <a:moveTo>
                  <a:pt x="0" y="0"/>
                </a:moveTo>
                <a:lnTo>
                  <a:pt x="108000" y="0"/>
                </a:lnTo>
                <a:lnTo>
                  <a:pt x="106600" y="1400"/>
                </a:lnTo>
                <a:lnTo>
                  <a:pt x="1400" y="1400"/>
                </a:lnTo>
                <a:close/>
              </a:path>
              <a:path fill="darken" w="108000" h="21600">
                <a:moveTo>
                  <a:pt x="108000" y="0"/>
                </a:moveTo>
                <a:lnTo>
                  <a:pt x="108000" y="21600"/>
                </a:lnTo>
                <a:lnTo>
                  <a:pt x="106600" y="20200"/>
                </a:lnTo>
                <a:lnTo>
                  <a:pt x="106600" y="1400"/>
                </a:lnTo>
                <a:close/>
              </a:path>
              <a:path fill="darkenLess" w="108000" h="21600">
                <a:moveTo>
                  <a:pt x="108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600" y="20200"/>
                </a:lnTo>
                <a:close/>
              </a:path>
              <a:path fill="lighten" w="108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vo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761080" y="2352600"/>
            <a:ext cx="863640" cy="216000"/>
          </a:xfrm>
          <a:custGeom>
            <a:avLst/>
            <a:gdLst>
              <a:gd name="textAreaLeft" fmla="*/ 13680 w 863640"/>
              <a:gd name="textAreaRight" fmla="*/ 849960 w 863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86256" h="21600">
                <a:moveTo>
                  <a:pt x="0" y="0"/>
                </a:moveTo>
                <a:lnTo>
                  <a:pt x="86256" y="0"/>
                </a:lnTo>
                <a:lnTo>
                  <a:pt x="86256" y="21600"/>
                </a:lnTo>
                <a:lnTo>
                  <a:pt x="0" y="21600"/>
                </a:lnTo>
                <a:close/>
              </a:path>
              <a:path fill="lightenLess" w="86256" h="21600">
                <a:moveTo>
                  <a:pt x="0" y="0"/>
                </a:moveTo>
                <a:lnTo>
                  <a:pt x="86256" y="0"/>
                </a:lnTo>
                <a:lnTo>
                  <a:pt x="84856" y="1400"/>
                </a:lnTo>
                <a:lnTo>
                  <a:pt x="1400" y="1400"/>
                </a:lnTo>
                <a:close/>
              </a:path>
              <a:path fill="darken" w="86256" h="21600">
                <a:moveTo>
                  <a:pt x="86256" y="0"/>
                </a:moveTo>
                <a:lnTo>
                  <a:pt x="86256" y="21600"/>
                </a:lnTo>
                <a:lnTo>
                  <a:pt x="84856" y="20200"/>
                </a:lnTo>
                <a:lnTo>
                  <a:pt x="84856" y="1400"/>
                </a:lnTo>
                <a:close/>
              </a:path>
              <a:path fill="darkenLess" w="86256" h="21600">
                <a:moveTo>
                  <a:pt x="862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856" y="20200"/>
                </a:lnTo>
                <a:close/>
              </a:path>
              <a:path fill="lighten" w="862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trait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583160" y="2614680"/>
            <a:ext cx="1079280" cy="216000"/>
          </a:xfrm>
          <a:custGeom>
            <a:avLst/>
            <a:gdLst>
              <a:gd name="textAreaLeft" fmla="*/ 13680 w 1079280"/>
              <a:gd name="textAreaRight" fmla="*/ 1065600 w 1079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107784" h="21600">
                <a:moveTo>
                  <a:pt x="0" y="0"/>
                </a:moveTo>
                <a:lnTo>
                  <a:pt x="107784" y="0"/>
                </a:lnTo>
                <a:lnTo>
                  <a:pt x="107784" y="21600"/>
                </a:lnTo>
                <a:lnTo>
                  <a:pt x="0" y="21600"/>
                </a:lnTo>
                <a:close/>
              </a:path>
              <a:path fill="lightenLess" w="107784" h="21600">
                <a:moveTo>
                  <a:pt x="0" y="0"/>
                </a:moveTo>
                <a:lnTo>
                  <a:pt x="107784" y="0"/>
                </a:lnTo>
                <a:lnTo>
                  <a:pt x="106384" y="1400"/>
                </a:lnTo>
                <a:lnTo>
                  <a:pt x="1400" y="1400"/>
                </a:lnTo>
                <a:close/>
              </a:path>
              <a:path fill="darken" w="107784" h="21600">
                <a:moveTo>
                  <a:pt x="107784" y="0"/>
                </a:moveTo>
                <a:lnTo>
                  <a:pt x="107784" y="21600"/>
                </a:lnTo>
                <a:lnTo>
                  <a:pt x="106384" y="20200"/>
                </a:lnTo>
                <a:lnTo>
                  <a:pt x="106384" y="1400"/>
                </a:lnTo>
                <a:close/>
              </a:path>
              <a:path fill="darkenLess" w="107784" h="21600">
                <a:moveTo>
                  <a:pt x="1077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384" y="20200"/>
                </a:lnTo>
                <a:close/>
              </a:path>
              <a:path fill="lighten" w="1077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vo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86280" y="2614680"/>
            <a:ext cx="863640" cy="216000"/>
          </a:xfrm>
          <a:custGeom>
            <a:avLst/>
            <a:gdLst>
              <a:gd name="textAreaLeft" fmla="*/ 13680 w 863640"/>
              <a:gd name="textAreaRight" fmla="*/ 849960 w 863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86256" h="21600">
                <a:moveTo>
                  <a:pt x="0" y="0"/>
                </a:moveTo>
                <a:lnTo>
                  <a:pt x="86256" y="0"/>
                </a:lnTo>
                <a:lnTo>
                  <a:pt x="86256" y="21600"/>
                </a:lnTo>
                <a:lnTo>
                  <a:pt x="0" y="21600"/>
                </a:lnTo>
                <a:close/>
              </a:path>
              <a:path fill="lightenLess" w="86256" h="21600">
                <a:moveTo>
                  <a:pt x="0" y="0"/>
                </a:moveTo>
                <a:lnTo>
                  <a:pt x="86256" y="0"/>
                </a:lnTo>
                <a:lnTo>
                  <a:pt x="84856" y="1400"/>
                </a:lnTo>
                <a:lnTo>
                  <a:pt x="1400" y="1400"/>
                </a:lnTo>
                <a:close/>
              </a:path>
              <a:path fill="darken" w="86256" h="21600">
                <a:moveTo>
                  <a:pt x="86256" y="0"/>
                </a:moveTo>
                <a:lnTo>
                  <a:pt x="86256" y="21600"/>
                </a:lnTo>
                <a:lnTo>
                  <a:pt x="84856" y="20200"/>
                </a:lnTo>
                <a:lnTo>
                  <a:pt x="84856" y="1400"/>
                </a:lnTo>
                <a:close/>
              </a:path>
              <a:path fill="darkenLess" w="86256" h="21600">
                <a:moveTo>
                  <a:pt x="862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856" y="20200"/>
                </a:lnTo>
                <a:close/>
              </a:path>
              <a:path fill="lighten" w="862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trai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431640" y="4788000"/>
          <a:ext cx="6719760" cy="612720"/>
        </p:xfrm>
        <a:graphic>
          <a:graphicData uri="http://schemas.openxmlformats.org/drawingml/2006/table">
            <a:tbl>
              <a:tblPr/>
              <a:tblGrid>
                <a:gridCol w="2820960"/>
                <a:gridCol w="1008000"/>
                <a:gridCol w="1008000"/>
                <a:gridCol w="18828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sion de la base VA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nc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it le 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élécharger la ba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pagne octobre 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/10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3" name=""/>
          <p:cNvSpPr/>
          <p:nvPr/>
        </p:nvSpPr>
        <p:spPr>
          <a:xfrm>
            <a:off x="3313080" y="5114880"/>
            <a:ext cx="863640" cy="216000"/>
          </a:xfrm>
          <a:custGeom>
            <a:avLst/>
            <a:gdLst>
              <a:gd name="textAreaLeft" fmla="*/ 13680 w 863640"/>
              <a:gd name="textAreaRight" fmla="*/ 849960 w 863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86256" h="21600">
                <a:moveTo>
                  <a:pt x="0" y="0"/>
                </a:moveTo>
                <a:lnTo>
                  <a:pt x="86256" y="0"/>
                </a:lnTo>
                <a:lnTo>
                  <a:pt x="86256" y="21600"/>
                </a:lnTo>
                <a:lnTo>
                  <a:pt x="0" y="21600"/>
                </a:lnTo>
                <a:close/>
              </a:path>
              <a:path fill="lightenLess" w="86256" h="21600">
                <a:moveTo>
                  <a:pt x="0" y="0"/>
                </a:moveTo>
                <a:lnTo>
                  <a:pt x="86256" y="0"/>
                </a:lnTo>
                <a:lnTo>
                  <a:pt x="84856" y="1400"/>
                </a:lnTo>
                <a:lnTo>
                  <a:pt x="1400" y="1400"/>
                </a:lnTo>
                <a:close/>
              </a:path>
              <a:path fill="darken" w="86256" h="21600">
                <a:moveTo>
                  <a:pt x="86256" y="0"/>
                </a:moveTo>
                <a:lnTo>
                  <a:pt x="86256" y="21600"/>
                </a:lnTo>
                <a:lnTo>
                  <a:pt x="84856" y="20200"/>
                </a:lnTo>
                <a:lnTo>
                  <a:pt x="84856" y="1400"/>
                </a:lnTo>
                <a:close/>
              </a:path>
              <a:path fill="darkenLess" w="86256" h="21600">
                <a:moveTo>
                  <a:pt x="862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856" y="20200"/>
                </a:lnTo>
                <a:close/>
              </a:path>
              <a:path fill="lighten" w="862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fu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689440" y="5127480"/>
            <a:ext cx="1079640" cy="216000"/>
          </a:xfrm>
          <a:custGeom>
            <a:avLst/>
            <a:gdLst>
              <a:gd name="textAreaLeft" fmla="*/ 13680 w 1079640"/>
              <a:gd name="textAreaRight" fmla="*/ 1065960 w 1079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107820" h="21600">
                <a:moveTo>
                  <a:pt x="0" y="0"/>
                </a:moveTo>
                <a:lnTo>
                  <a:pt x="107820" y="0"/>
                </a:lnTo>
                <a:lnTo>
                  <a:pt x="107820" y="21600"/>
                </a:lnTo>
                <a:lnTo>
                  <a:pt x="0" y="21600"/>
                </a:lnTo>
                <a:close/>
              </a:path>
              <a:path fill="lightenLess" w="107820" h="21600">
                <a:moveTo>
                  <a:pt x="0" y="0"/>
                </a:moveTo>
                <a:lnTo>
                  <a:pt x="107820" y="0"/>
                </a:lnTo>
                <a:lnTo>
                  <a:pt x="106420" y="1400"/>
                </a:lnTo>
                <a:lnTo>
                  <a:pt x="1400" y="1400"/>
                </a:lnTo>
                <a:close/>
              </a:path>
              <a:path fill="darken" w="107820" h="21600">
                <a:moveTo>
                  <a:pt x="107820" y="0"/>
                </a:moveTo>
                <a:lnTo>
                  <a:pt x="107820" y="21600"/>
                </a:lnTo>
                <a:lnTo>
                  <a:pt x="106420" y="20200"/>
                </a:lnTo>
                <a:lnTo>
                  <a:pt x="106420" y="1400"/>
                </a:lnTo>
                <a:close/>
              </a:path>
              <a:path fill="darkenLess" w="107820" h="21600">
                <a:moveTo>
                  <a:pt x="1078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20" y="20200"/>
                </a:lnTo>
                <a:close/>
              </a:path>
              <a:path fill="lighten" w="1078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vo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573440" y="4079880"/>
            <a:ext cx="1079640" cy="216000"/>
          </a:xfrm>
          <a:custGeom>
            <a:avLst/>
            <a:gdLst>
              <a:gd name="textAreaLeft" fmla="*/ 13680 w 1079640"/>
              <a:gd name="textAreaRight" fmla="*/ 1065960 w 1079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107820" h="21600">
                <a:moveTo>
                  <a:pt x="0" y="0"/>
                </a:moveTo>
                <a:lnTo>
                  <a:pt x="107820" y="0"/>
                </a:lnTo>
                <a:lnTo>
                  <a:pt x="107820" y="21600"/>
                </a:lnTo>
                <a:lnTo>
                  <a:pt x="0" y="21600"/>
                </a:lnTo>
                <a:close/>
              </a:path>
              <a:path fill="lightenLess" w="107820" h="21600">
                <a:moveTo>
                  <a:pt x="0" y="0"/>
                </a:moveTo>
                <a:lnTo>
                  <a:pt x="107820" y="0"/>
                </a:lnTo>
                <a:lnTo>
                  <a:pt x="106420" y="1400"/>
                </a:lnTo>
                <a:lnTo>
                  <a:pt x="1400" y="1400"/>
                </a:lnTo>
                <a:close/>
              </a:path>
              <a:path fill="darken" w="107820" h="21600">
                <a:moveTo>
                  <a:pt x="107820" y="0"/>
                </a:moveTo>
                <a:lnTo>
                  <a:pt x="107820" y="21600"/>
                </a:lnTo>
                <a:lnTo>
                  <a:pt x="106420" y="20200"/>
                </a:lnTo>
                <a:lnTo>
                  <a:pt x="106420" y="1400"/>
                </a:lnTo>
                <a:close/>
              </a:path>
              <a:path fill="darkenLess" w="107820" h="21600">
                <a:moveTo>
                  <a:pt x="1078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20" y="20200"/>
                </a:lnTo>
                <a:close/>
              </a:path>
              <a:path fill="lighten" w="1078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vo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8097840" y="4067280"/>
            <a:ext cx="1079640" cy="215640"/>
          </a:xfrm>
          <a:custGeom>
            <a:avLst/>
            <a:gdLst>
              <a:gd name="textAreaLeft" fmla="*/ 13680 w 1079640"/>
              <a:gd name="textAreaRight" fmla="*/ 1065960 w 107964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108000" h="21600">
                <a:moveTo>
                  <a:pt x="0" y="0"/>
                </a:moveTo>
                <a:lnTo>
                  <a:pt x="108000" y="0"/>
                </a:lnTo>
                <a:lnTo>
                  <a:pt x="108000" y="21600"/>
                </a:lnTo>
                <a:lnTo>
                  <a:pt x="0" y="21600"/>
                </a:lnTo>
                <a:close/>
              </a:path>
              <a:path fill="lightenLess" w="108000" h="21600">
                <a:moveTo>
                  <a:pt x="0" y="0"/>
                </a:moveTo>
                <a:lnTo>
                  <a:pt x="108000" y="0"/>
                </a:lnTo>
                <a:lnTo>
                  <a:pt x="106600" y="1400"/>
                </a:lnTo>
                <a:lnTo>
                  <a:pt x="1400" y="1400"/>
                </a:lnTo>
                <a:close/>
              </a:path>
              <a:path fill="darken" w="108000" h="21600">
                <a:moveTo>
                  <a:pt x="108000" y="0"/>
                </a:moveTo>
                <a:lnTo>
                  <a:pt x="108000" y="21600"/>
                </a:lnTo>
                <a:lnTo>
                  <a:pt x="106600" y="20200"/>
                </a:lnTo>
                <a:lnTo>
                  <a:pt x="106600" y="1400"/>
                </a:lnTo>
                <a:close/>
              </a:path>
              <a:path fill="darkenLess" w="108000" h="21600">
                <a:moveTo>
                  <a:pt x="108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600" y="20200"/>
                </a:lnTo>
                <a:close/>
              </a:path>
              <a:path fill="lighten" w="108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vo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786280" y="4067280"/>
            <a:ext cx="863640" cy="215640"/>
          </a:xfrm>
          <a:custGeom>
            <a:avLst/>
            <a:gdLst>
              <a:gd name="textAreaLeft" fmla="*/ 13680 w 863640"/>
              <a:gd name="textAreaRight" fmla="*/ 849960 w 86364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86400" h="21600">
                <a:moveTo>
                  <a:pt x="0" y="0"/>
                </a:moveTo>
                <a:lnTo>
                  <a:pt x="86400" y="0"/>
                </a:lnTo>
                <a:lnTo>
                  <a:pt x="86400" y="21600"/>
                </a:lnTo>
                <a:lnTo>
                  <a:pt x="0" y="21600"/>
                </a:lnTo>
                <a:close/>
              </a:path>
              <a:path fill="lightenLess" w="86400" h="21600">
                <a:moveTo>
                  <a:pt x="0" y="0"/>
                </a:moveTo>
                <a:lnTo>
                  <a:pt x="86400" y="0"/>
                </a:lnTo>
                <a:lnTo>
                  <a:pt x="85000" y="1400"/>
                </a:lnTo>
                <a:lnTo>
                  <a:pt x="1400" y="1400"/>
                </a:lnTo>
                <a:close/>
              </a:path>
              <a:path fill="darken" w="86400" h="21600">
                <a:moveTo>
                  <a:pt x="86400" y="0"/>
                </a:moveTo>
                <a:lnTo>
                  <a:pt x="86400" y="21600"/>
                </a:lnTo>
                <a:lnTo>
                  <a:pt x="85000" y="20200"/>
                </a:lnTo>
                <a:lnTo>
                  <a:pt x="85000" y="1400"/>
                </a:lnTo>
                <a:close/>
              </a:path>
              <a:path fill="darkenLess" w="86400" h="21600">
                <a:moveTo>
                  <a:pt x="86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5000" y="20200"/>
                </a:lnTo>
                <a:close/>
              </a:path>
              <a:path fill="lighten" w="86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trait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0" y="0"/>
            <a:ext cx="10080720" cy="1476360"/>
          </a:xfrm>
          <a:prstGeom prst="roundRect">
            <a:avLst>
              <a:gd name="adj" fmla="val 125"/>
            </a:avLst>
          </a:prstGeom>
          <a:solidFill>
            <a:srgbClr val="ffffff"/>
          </a:solidFill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1800" spc="-1" strike="noStrike">
                <a:solidFill>
                  <a:srgbClr val="0066ff"/>
                </a:solidFill>
                <a:latin typeface="Arial"/>
              </a:rPr>
              <a:t>Suivi régional des Parcours V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1800" spc="-1" strike="noStrike">
                <a:solidFill>
                  <a:srgbClr val="0066ff"/>
                </a:solidFill>
                <a:latin typeface="Arial"/>
              </a:rPr>
              <a:t>Provence Alpes Côte d‘Az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2800" spc="-1" strike="noStrike">
                <a:solidFill>
                  <a:srgbClr val="0066ff"/>
                </a:solidFill>
                <a:latin typeface="Arial"/>
              </a:rPr>
              <a:t>Traitement fichier certificat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722200" y="108000"/>
            <a:ext cx="314964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600" spc="-1" strike="noStrike">
                <a:solidFill>
                  <a:srgbClr val="0000cc"/>
                </a:solidFill>
                <a:latin typeface="Arial"/>
              </a:rPr>
              <a:t>Identifiant : Admin I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cc"/>
                </a:solidFill>
                <a:latin typeface="Arial"/>
              </a:rPr>
              <a:t>déconnecter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76360" y="1619280"/>
            <a:ext cx="9074160" cy="44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ertificateur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: DAVA.           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Fichier export du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: 25/9/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Lancez le trait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identification et suppression des enregistrements sans dates de naissa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fr-FR" sz="1800" spc="-1" strike="noStrike">
                <a:solidFill>
                  <a:srgbClr val="008000"/>
                </a:solidFill>
                <a:latin typeface="Arial"/>
              </a:rPr>
              <a:t>Fait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: 134 enregistrements sur 678 supprim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identification et suppression des enregistrements sans c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fr-FR" sz="1800" spc="-1" strike="noStrike">
                <a:solidFill>
                  <a:srgbClr val="008000"/>
                </a:solidFill>
                <a:latin typeface="Arial"/>
              </a:rPr>
              <a:t>Fait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: 25 enregistrements sur 678 supprim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identification et suppression des enregistrements sans dates dépôt de dossier ni date de recevabili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fr-FR" sz="1800" spc="-1" strike="noStrike">
                <a:solidFill>
                  <a:srgbClr val="008000"/>
                </a:solidFill>
                <a:latin typeface="Arial"/>
              </a:rPr>
              <a:t>Fait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: 5 enregistrements sur 678 supprim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traitements spécifiques conformément aux règ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fr-FR" sz="1800" spc="-1" strike="noStrike">
                <a:solidFill>
                  <a:srgbClr val="008000"/>
                </a:solidFill>
                <a:latin typeface="Arial"/>
              </a:rPr>
              <a:t>Fa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2000" y="6012000"/>
            <a:ext cx="7848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92000" y="6012000"/>
            <a:ext cx="5257800" cy="28728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73200" y="6600960"/>
            <a:ext cx="50896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Lancez l’édition du rapport et du fichier trai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10080720" cy="1476360"/>
          </a:xfrm>
          <a:prstGeom prst="roundRect">
            <a:avLst>
              <a:gd name="adj" fmla="val 125"/>
            </a:avLst>
          </a:prstGeom>
          <a:solidFill>
            <a:srgbClr val="ffffff"/>
          </a:solidFill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1800" spc="-1" strike="noStrike">
                <a:solidFill>
                  <a:srgbClr val="0066ff"/>
                </a:solidFill>
                <a:latin typeface="Arial"/>
              </a:rPr>
              <a:t>Suivi régional des Parcours V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1800" spc="-1" strike="noStrike">
                <a:solidFill>
                  <a:srgbClr val="0066ff"/>
                </a:solidFill>
                <a:latin typeface="Arial"/>
              </a:rPr>
              <a:t>Provence Alpes Côte d‘Az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2800" spc="-1" strike="noStrike">
                <a:solidFill>
                  <a:srgbClr val="0066ff"/>
                </a:solidFill>
                <a:latin typeface="Arial"/>
              </a:rPr>
              <a:t>Mise à jour de la base des parcours VA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722200" y="108000"/>
            <a:ext cx="314964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600" spc="-1" strike="noStrike">
                <a:solidFill>
                  <a:srgbClr val="0000cc"/>
                </a:solidFill>
                <a:latin typeface="Arial"/>
              </a:rPr>
              <a:t>Identifiant : Admin I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cc"/>
                </a:solidFill>
                <a:latin typeface="Arial"/>
              </a:rPr>
              <a:t>déconnecter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76360" y="1763640"/>
            <a:ext cx="907416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ampagn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: octobre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Lancez la mise à j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0720" y="2987640"/>
            <a:ext cx="7848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20720" y="2987640"/>
            <a:ext cx="5257800" cy="28728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46200" y="4800600"/>
            <a:ext cx="55209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Lancez l’édition de la nouvelle version de la 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50160" y="3851280"/>
            <a:ext cx="49158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Lancez les compléments d’enregist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0" y="0"/>
            <a:ext cx="10080720" cy="1476360"/>
          </a:xfrm>
          <a:prstGeom prst="roundRect">
            <a:avLst>
              <a:gd name="adj" fmla="val 125"/>
            </a:avLst>
          </a:prstGeom>
          <a:solidFill>
            <a:srgbClr val="ffffff"/>
          </a:solidFill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1800" spc="-1" strike="noStrike">
                <a:solidFill>
                  <a:srgbClr val="0066ff"/>
                </a:solidFill>
                <a:latin typeface="Arial"/>
              </a:rPr>
              <a:t>Suivi régional des Parcours V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1800" spc="-1" strike="noStrike">
                <a:solidFill>
                  <a:srgbClr val="0066ff"/>
                </a:solidFill>
                <a:latin typeface="Arial"/>
              </a:rPr>
              <a:t>Provence Alpes Côte d‘Az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2800" spc="-1" strike="noStrike">
                <a:solidFill>
                  <a:srgbClr val="0066ff"/>
                </a:solidFill>
                <a:latin typeface="Arial"/>
              </a:rPr>
              <a:t>Compléments</a:t>
            </a:r>
            <a:r>
              <a:rPr b="1" i="1" lang="de-DE" sz="28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i="1" lang="fr-FR" sz="2800" spc="-1" strike="noStrike">
                <a:solidFill>
                  <a:srgbClr val="0066ff"/>
                </a:solidFill>
                <a:latin typeface="Arial"/>
              </a:rPr>
              <a:t>d‘enregist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722200" y="108000"/>
            <a:ext cx="314964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600" spc="-1" strike="noStrike">
                <a:solidFill>
                  <a:srgbClr val="0000cc"/>
                </a:solidFill>
                <a:latin typeface="Arial"/>
              </a:rPr>
              <a:t>Identifiant : Admin I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cc"/>
                </a:solidFill>
                <a:latin typeface="Arial"/>
              </a:rPr>
              <a:t>déconnecter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76360" y="1763640"/>
            <a:ext cx="9074160" cy="46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ttachement du fichier de données complémentaire : </a:t>
            </a: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attach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éparation du fichier d’export : </a:t>
            </a: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créez le fichier d’ex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harmonisation des champs du fichier avec la base régionale des parcours V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normalisation des noms, prénoms et dates de naiss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anonymisation du fichier : remplacement des noms et prénoms par un code    indéchiffr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nregistrement du fichier dans le serveur : </a:t>
            </a: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enregistr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raitement des données avant fusion : </a:t>
            </a: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trait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usion des données dans la base des parcours VAE : </a:t>
            </a: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fusionn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10080720" cy="1260360"/>
          </a:xfrm>
          <a:prstGeom prst="roundRect">
            <a:avLst>
              <a:gd name="adj" fmla="val 125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2400" spc="-1" strike="noStrike">
                <a:solidFill>
                  <a:srgbClr val="ffffff"/>
                </a:solidFill>
                <a:latin typeface="Arial"/>
              </a:rPr>
              <a:t>Suivi régional des Parcours VA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2400" spc="-1" strike="noStrike">
                <a:solidFill>
                  <a:srgbClr val="ffffff"/>
                </a:solidFill>
                <a:latin typeface="Arial"/>
              </a:rPr>
              <a:t>Provence Alpes Côte d‘Az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51960" y="1476360"/>
            <a:ext cx="4686840" cy="34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onnées et résultats statistiques régiona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cc"/>
                </a:solidFill>
                <a:latin typeface="Arial"/>
              </a:rPr>
              <a:t>Exportez vos donn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cc"/>
                </a:solidFill>
                <a:latin typeface="Arial"/>
              </a:rPr>
              <a:t>Mes fichiers, mes statisti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342120" y="1692360"/>
            <a:ext cx="3235320" cy="11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Guide d’utilisation du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on comp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877360" y="0"/>
            <a:ext cx="419796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Identifiant : Dupond I Direccte I </a:t>
            </a:r>
            <a:r>
              <a:rPr b="0" lang="fr-FR" sz="1600" spc="-1" strike="noStrike">
                <a:solidFill>
                  <a:srgbClr val="ccccff"/>
                </a:solidFill>
                <a:latin typeface="Arial"/>
              </a:rPr>
              <a:t>déconnecter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60360" y="2050920"/>
            <a:ext cx="9504360" cy="377280"/>
            <a:chOff x="360360" y="2050920"/>
            <a:chExt cx="9504360" cy="377280"/>
          </a:xfrm>
        </p:grpSpPr>
        <p:sp>
          <p:nvSpPr>
            <p:cNvPr id="51" name=""/>
            <p:cNvSpPr/>
            <p:nvPr/>
          </p:nvSpPr>
          <p:spPr>
            <a:xfrm>
              <a:off x="360360" y="2050920"/>
              <a:ext cx="9504360" cy="37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spcBef>
                  <a:spcPts val="1125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2000" spc="-1" strike="noStrike">
                  <a:solidFill>
                    <a:srgbClr val="ffffff"/>
                  </a:solidFill>
                  <a:latin typeface="Arial Unicode MS"/>
                </a:rPr>
                <a:t>     </a:t>
              </a:r>
              <a:r>
                <a:rPr b="0" lang="fr-FR" sz="1800" spc="-1" strike="noStrike">
                  <a:solidFill>
                    <a:srgbClr val="ffffff"/>
                  </a:solidFill>
                  <a:latin typeface="Arial"/>
                </a:rPr>
                <a:t>Validation                 Préparation du fichier d’export                  Expo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03280" y="2124000"/>
              <a:ext cx="21600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92360" y="2124000"/>
              <a:ext cx="21600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769080" y="2124000"/>
              <a:ext cx="21600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6480000" y="161928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210200" y="2695680"/>
            <a:ext cx="5040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3333cc"/>
                </a:solidFill>
                <a:latin typeface="Arial"/>
              </a:rPr>
              <a:t>Données non enregistrées</a:t>
            </a: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    Données enregistré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419120" y="3527280"/>
            <a:ext cx="7437600" cy="11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Export des données, mode d’emploi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Démarrer l’assistant d’exportation des données : </a:t>
            </a: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démarr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0"/>
            <a:ext cx="10080720" cy="1476360"/>
          </a:xfrm>
          <a:prstGeom prst="roundRect">
            <a:avLst>
              <a:gd name="adj" fmla="val 125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1800" spc="-1" strike="noStrike">
                <a:solidFill>
                  <a:srgbClr val="ffffff"/>
                </a:solidFill>
                <a:latin typeface="Arial"/>
              </a:rPr>
              <a:t>Suivi régional des Parcours V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1800" spc="-1" strike="noStrike">
                <a:solidFill>
                  <a:srgbClr val="ffffff"/>
                </a:solidFill>
                <a:latin typeface="Arial"/>
              </a:rPr>
              <a:t>Provence Alpes Côte d‘Az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2800" spc="-1" strike="noStrike">
                <a:solidFill>
                  <a:srgbClr val="ffffff"/>
                </a:solidFill>
                <a:latin typeface="Arial"/>
              </a:rPr>
              <a:t>Interface d‘export des données certificat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723280" y="108000"/>
            <a:ext cx="419796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Identifiant : Dupond I Direccte I </a:t>
            </a:r>
            <a:r>
              <a:rPr b="0" lang="fr-FR" sz="1600" spc="-1" strike="noStrike">
                <a:solidFill>
                  <a:srgbClr val="ccccff"/>
                </a:solidFill>
                <a:latin typeface="Arial"/>
              </a:rPr>
              <a:t>déconnecter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480000" y="161928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210200" y="2695680"/>
            <a:ext cx="5040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Données non enregistrées    Données enregistré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3280" y="3274920"/>
            <a:ext cx="74372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attachez votre fichier de données : </a:t>
            </a: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attach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719280" y="3780000"/>
            <a:ext cx="4619520" cy="30096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60360" y="2050920"/>
            <a:ext cx="950436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Validation                 Préparation du fichier d’export                  Ex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03280" y="2124000"/>
            <a:ext cx="216000" cy="216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92360" y="2124000"/>
            <a:ext cx="216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769080" y="2124000"/>
            <a:ext cx="216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0" y="0"/>
            <a:ext cx="10080720" cy="1476360"/>
            <a:chOff x="0" y="0"/>
            <a:chExt cx="10080720" cy="1476360"/>
          </a:xfrm>
        </p:grpSpPr>
        <p:sp>
          <p:nvSpPr>
            <p:cNvPr id="69" name=""/>
            <p:cNvSpPr/>
            <p:nvPr/>
          </p:nvSpPr>
          <p:spPr>
            <a:xfrm>
              <a:off x="0" y="0"/>
              <a:ext cx="10080720" cy="1476360"/>
            </a:xfrm>
            <a:prstGeom prst="roundRect">
              <a:avLst>
                <a:gd name="adj" fmla="val 125"/>
              </a:avLst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308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Suivi régional des Parcours VA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Provence Alpes Côte d‘Az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2800" spc="-1" strike="noStrike">
                  <a:solidFill>
                    <a:srgbClr val="ffffff"/>
                  </a:solidFill>
                  <a:latin typeface="Arial"/>
                </a:rPr>
                <a:t>Interface d‘export des données certificateu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723280" y="108000"/>
              <a:ext cx="419796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Identifiant : Dupond I Direccte I </a:t>
              </a:r>
              <a:r>
                <a:rPr b="0" lang="fr-FR" sz="1600" spc="-1" strike="noStrike">
                  <a:solidFill>
                    <a:srgbClr val="ccccff"/>
                  </a:solidFill>
                  <a:latin typeface="Arial"/>
                </a:rPr>
                <a:t>déconnecter</a:t>
              </a: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6480000" y="161928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210200" y="2695680"/>
            <a:ext cx="5040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Données non enregistrées    Données enregistré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03280" y="3274920"/>
            <a:ext cx="9074160" cy="26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votre fichier de données est correctement paramétré : </a:t>
            </a: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continu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votre fichier a été traité pour le rendre conform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- X colonnes, Y lignes, Z doublons complets ont été supprimés : </a:t>
            </a:r>
            <a:r>
              <a:rPr b="1" i="1" lang="fr-FR" sz="1800" spc="-1" strike="noStrike">
                <a:solidFill>
                  <a:srgbClr val="0000cc"/>
                </a:solidFill>
                <a:latin typeface="Arial"/>
                <a:ea typeface="Arial Unicode MS"/>
              </a:rPr>
              <a:t>continuez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votre fichier de données ne peut pas être traité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-</a:t>
            </a:r>
            <a:r>
              <a:rPr b="1" i="1" lang="fr-FR" sz="1800" spc="-1" strike="noStrike">
                <a:solidFill>
                  <a:srgbClr val="0000cc"/>
                </a:solidFill>
                <a:latin typeface="Arial"/>
                <a:ea typeface="Arial Unicode MS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il n’est pas au format .csv ou tabulé : enregistrez votre fichier au bon format et recommenc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60360" y="2050920"/>
            <a:ext cx="950436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Validation                 Préparation du fichier d’export                  Ex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03280" y="2124000"/>
            <a:ext cx="216000" cy="216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592360" y="2124000"/>
            <a:ext cx="216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769080" y="2124000"/>
            <a:ext cx="216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0" y="0"/>
            <a:ext cx="10080720" cy="1476360"/>
            <a:chOff x="0" y="0"/>
            <a:chExt cx="10080720" cy="1476360"/>
          </a:xfrm>
        </p:grpSpPr>
        <p:sp>
          <p:nvSpPr>
            <p:cNvPr id="79" name=""/>
            <p:cNvSpPr/>
            <p:nvPr/>
          </p:nvSpPr>
          <p:spPr>
            <a:xfrm>
              <a:off x="0" y="0"/>
              <a:ext cx="10080720" cy="1476360"/>
            </a:xfrm>
            <a:prstGeom prst="roundRect">
              <a:avLst>
                <a:gd name="adj" fmla="val 125"/>
              </a:avLst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308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Suivi régional des Parcours VA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Provence Alpes Côte d‘Az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2800" spc="-1" strike="noStrike">
                  <a:solidFill>
                    <a:srgbClr val="ffffff"/>
                  </a:solidFill>
                  <a:latin typeface="Arial"/>
                </a:rPr>
                <a:t>Interface d‘export des données certificateu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723280" y="108000"/>
              <a:ext cx="419796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Identifiant : Dupond I Direccte I </a:t>
              </a:r>
              <a:r>
                <a:rPr b="0" lang="fr-FR" sz="1600" spc="-1" strike="noStrike">
                  <a:solidFill>
                    <a:srgbClr val="ccccff"/>
                  </a:solidFill>
                  <a:latin typeface="Arial"/>
                </a:rPr>
                <a:t>déconnecter</a:t>
              </a: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480000" y="161928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210200" y="2695680"/>
            <a:ext cx="5040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Données non enregistrées    Données enregistré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03280" y="3274920"/>
            <a:ext cx="9074160" cy="34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ancez la préparation de votre fichier d’export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harmonisation des champs du fichier avec la base régionale des parcours V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normalisation des noms, prénoms et dates de naiss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anonymisation du fichier : remplacement des noms et prénoms par un code    indéchiffr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 l’issue de cette opération, vous pourrez consulter le fichier traité et décider ou non de l’enregistrer sur le serveur (export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Jusqu’à cette étape, vos données ne sont pas enregistré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Lanc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60360" y="2050920"/>
            <a:ext cx="950436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Validation                 Préparation du fichier d’export                  Ex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03280" y="2124000"/>
            <a:ext cx="216000" cy="216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592360" y="2124000"/>
            <a:ext cx="216000" cy="216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769080" y="2124000"/>
            <a:ext cx="216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0" y="0"/>
            <a:ext cx="10080720" cy="1476360"/>
            <a:chOff x="0" y="0"/>
            <a:chExt cx="10080720" cy="1476360"/>
          </a:xfrm>
        </p:grpSpPr>
        <p:sp>
          <p:nvSpPr>
            <p:cNvPr id="89" name=""/>
            <p:cNvSpPr/>
            <p:nvPr/>
          </p:nvSpPr>
          <p:spPr>
            <a:xfrm>
              <a:off x="0" y="0"/>
              <a:ext cx="10080720" cy="1476360"/>
            </a:xfrm>
            <a:prstGeom prst="roundRect">
              <a:avLst>
                <a:gd name="adj" fmla="val 125"/>
              </a:avLst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308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Suivi régional des Parcours VA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Provence Alpes Côte d‘Az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2800" spc="-1" strike="noStrike">
                  <a:solidFill>
                    <a:srgbClr val="ffffff"/>
                  </a:solidFill>
                  <a:latin typeface="Arial"/>
                </a:rPr>
                <a:t>Interface d‘export des données certificateu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723280" y="108000"/>
              <a:ext cx="419796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Identifiant : Dupond I Direccte I </a:t>
              </a:r>
              <a:r>
                <a:rPr b="0" lang="fr-FR" sz="1600" spc="-1" strike="noStrike">
                  <a:solidFill>
                    <a:srgbClr val="ccccff"/>
                  </a:solidFill>
                  <a:latin typeface="Arial"/>
                </a:rPr>
                <a:t>déconnecter</a:t>
              </a: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480000" y="161928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10200" y="2695680"/>
            <a:ext cx="5040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Données non enregistrées    Données enregistré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60360" y="2050920"/>
            <a:ext cx="950436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Validation                 Préparation du fichier d’export                  Ex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3280" y="2124000"/>
            <a:ext cx="216000" cy="216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592360" y="2124000"/>
            <a:ext cx="216000" cy="216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769080" y="2124000"/>
            <a:ext cx="216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3708360"/>
            <a:ext cx="7848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295280" y="3708360"/>
            <a:ext cx="5257800" cy="28728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242000" y="4194000"/>
            <a:ext cx="4975200" cy="2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Harmonisation des champs.....normalisation des valeurs..............anonymisation........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0" y="0"/>
            <a:ext cx="10080720" cy="1476360"/>
            <a:chOff x="0" y="0"/>
            <a:chExt cx="10080720" cy="1476360"/>
          </a:xfrm>
        </p:grpSpPr>
        <p:sp>
          <p:nvSpPr>
            <p:cNvPr id="101" name=""/>
            <p:cNvSpPr/>
            <p:nvPr/>
          </p:nvSpPr>
          <p:spPr>
            <a:xfrm>
              <a:off x="0" y="0"/>
              <a:ext cx="10080720" cy="1476360"/>
            </a:xfrm>
            <a:prstGeom prst="roundRect">
              <a:avLst>
                <a:gd name="adj" fmla="val 125"/>
              </a:avLst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308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Suivi régional des Parcours VA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Provence Alpes Côte d‘Az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2800" spc="-1" strike="noStrike">
                  <a:solidFill>
                    <a:srgbClr val="ffffff"/>
                  </a:solidFill>
                  <a:latin typeface="Arial"/>
                </a:rPr>
                <a:t>Interface d‘export des données certificateu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723280" y="108000"/>
              <a:ext cx="419796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Identifiant : Dupond I Direccte I </a:t>
              </a:r>
              <a:r>
                <a:rPr b="0" lang="fr-FR" sz="1600" spc="-1" strike="noStrike">
                  <a:solidFill>
                    <a:srgbClr val="ccccff"/>
                  </a:solidFill>
                  <a:latin typeface="Arial"/>
                </a:rPr>
                <a:t>déconnecter</a:t>
              </a: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480000" y="161928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210200" y="2695680"/>
            <a:ext cx="5040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Données non enregistrées    Données enregistré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60360" y="2050920"/>
            <a:ext cx="950436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Validation                 Préparation du fichier d’export                  Ex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03280" y="2124000"/>
            <a:ext cx="216000" cy="216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592360" y="2124000"/>
            <a:ext cx="216000" cy="216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769080" y="2124000"/>
            <a:ext cx="216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295280" y="3708360"/>
            <a:ext cx="7848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295280" y="3708360"/>
            <a:ext cx="7848720" cy="28728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241280" y="4194000"/>
            <a:ext cx="6967800" cy="31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Votre fichier a été correctement configuré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Voulez vous contrôler vos données avant leur enregistrement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fr-FR" sz="1800" spc="-1" strike="noStrike">
                <a:solidFill>
                  <a:srgbClr val="3333ff"/>
                </a:solidFill>
                <a:latin typeface="Arial"/>
              </a:rPr>
              <a:t>Voir mes donn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Voulez vous exporter vos données vers le serveur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fr-FR" sz="1800" spc="-1" strike="noStrike">
                <a:solidFill>
                  <a:srgbClr val="3333ff"/>
                </a:solidFill>
                <a:latin typeface="Arial"/>
              </a:rPr>
              <a:t>Exporter mes donn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0" y="0"/>
            <a:ext cx="10080720" cy="1476360"/>
            <a:chOff x="0" y="0"/>
            <a:chExt cx="10080720" cy="1476360"/>
          </a:xfrm>
        </p:grpSpPr>
        <p:sp>
          <p:nvSpPr>
            <p:cNvPr id="113" name=""/>
            <p:cNvSpPr/>
            <p:nvPr/>
          </p:nvSpPr>
          <p:spPr>
            <a:xfrm>
              <a:off x="0" y="0"/>
              <a:ext cx="10080720" cy="1476360"/>
            </a:xfrm>
            <a:prstGeom prst="roundRect">
              <a:avLst>
                <a:gd name="adj" fmla="val 125"/>
              </a:avLst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308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Suivi régional des Parcours VA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Provence Alpes Côte d‘Az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2800" spc="-1" strike="noStrike">
                  <a:solidFill>
                    <a:srgbClr val="ffffff"/>
                  </a:solidFill>
                  <a:latin typeface="Arial"/>
                </a:rPr>
                <a:t>Interface d‘export des données certificateu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723280" y="108000"/>
              <a:ext cx="419796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Identifiant : Dupond I Direccte I </a:t>
              </a:r>
              <a:r>
                <a:rPr b="0" lang="fr-FR" sz="1600" spc="-1" strike="noStrike">
                  <a:solidFill>
                    <a:srgbClr val="ccccff"/>
                  </a:solidFill>
                  <a:latin typeface="Arial"/>
                </a:rPr>
                <a:t>déconnecter</a:t>
              </a: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6480000" y="161928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210200" y="2695680"/>
            <a:ext cx="5040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Données non enregistrées    Données enregistré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360360" y="2050920"/>
            <a:ext cx="9504360" cy="377280"/>
            <a:chOff x="360360" y="2050920"/>
            <a:chExt cx="9504360" cy="377280"/>
          </a:xfrm>
        </p:grpSpPr>
        <p:sp>
          <p:nvSpPr>
            <p:cNvPr id="118" name=""/>
            <p:cNvSpPr/>
            <p:nvPr/>
          </p:nvSpPr>
          <p:spPr>
            <a:xfrm>
              <a:off x="360360" y="2050920"/>
              <a:ext cx="9504360" cy="37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spcBef>
                  <a:spcPts val="1125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2000" spc="-1" strike="noStrike">
                  <a:solidFill>
                    <a:srgbClr val="ffffff"/>
                  </a:solidFill>
                  <a:latin typeface="Arial Unicode MS"/>
                </a:rPr>
                <a:t>     </a:t>
              </a:r>
              <a:r>
                <a:rPr b="0" lang="fr-FR" sz="1800" spc="-1" strike="noStrike">
                  <a:solidFill>
                    <a:srgbClr val="ffffff"/>
                  </a:solidFill>
                  <a:latin typeface="Arial"/>
                </a:rPr>
                <a:t>Validation                 Préparation du fichier d’export                  Expo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3280" y="2124000"/>
              <a:ext cx="216000" cy="21600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592360" y="2124000"/>
              <a:ext cx="216000" cy="21600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769080" y="2124000"/>
              <a:ext cx="21600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3059280"/>
            <a:ext cx="10080720" cy="30337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721080" y="6372360"/>
            <a:ext cx="31266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fr-FR" sz="1800" spc="-1" strike="noStrike">
                <a:solidFill>
                  <a:srgbClr val="3333ff"/>
                </a:solidFill>
                <a:latin typeface="Arial"/>
              </a:rPr>
              <a:t>Télécharger mes donnée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0" y="0"/>
            <a:ext cx="10080720" cy="1476360"/>
            <a:chOff x="0" y="0"/>
            <a:chExt cx="10080720" cy="1476360"/>
          </a:xfrm>
        </p:grpSpPr>
        <p:sp>
          <p:nvSpPr>
            <p:cNvPr id="125" name=""/>
            <p:cNvSpPr/>
            <p:nvPr/>
          </p:nvSpPr>
          <p:spPr>
            <a:xfrm>
              <a:off x="0" y="0"/>
              <a:ext cx="10080720" cy="1476360"/>
            </a:xfrm>
            <a:prstGeom prst="roundRect">
              <a:avLst>
                <a:gd name="adj" fmla="val 125"/>
              </a:avLst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308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Suivi régional des Parcours VA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Provence Alpes Côte d‘Az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2800" spc="-1" strike="noStrike">
                  <a:solidFill>
                    <a:srgbClr val="ffffff"/>
                  </a:solidFill>
                  <a:latin typeface="Arial"/>
                </a:rPr>
                <a:t>Interface d‘export des données certificateu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723280" y="108000"/>
              <a:ext cx="419796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Identifiant : Dupond I Direccte I </a:t>
              </a:r>
              <a:r>
                <a:rPr b="0" lang="fr-FR" sz="1600" spc="-1" strike="noStrike">
                  <a:solidFill>
                    <a:srgbClr val="ccccff"/>
                  </a:solidFill>
                  <a:latin typeface="Arial"/>
                </a:rPr>
                <a:t>déconnecter</a:t>
              </a: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9:32:33Z</dcterms:created>
  <dc:creator/>
  <dc:description/>
  <dc:language>en-US</dc:language>
  <cp:lastModifiedBy>Bruno</cp:lastModifiedBy>
  <dcterms:modified xsi:type="dcterms:W3CDTF">2010-09-08T09:38:17Z</dcterms:modified>
  <cp:revision>9</cp:revision>
  <dc:subject/>
  <dc:title>Diapositive 1</dc:title>
</cp:coreProperties>
</file>